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FF4E-30DB-4705-B654-EB77C93A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401A-CECD-427F-8903-8FA487B7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2BF6-8581-4202-B163-CA833D030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7E36-9BF8-4D11-B615-FE40FE45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13D7-7003-41E4-81ED-F558E35F4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CA28-C3A2-470E-B8B0-4134A4E6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8490-229A-4967-87A8-E3D38CF9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C8B7-56CC-42E8-A217-F66C805B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E94E-464B-4915-A9CF-20974287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3689-89D6-4546-9E69-8CEC0BB7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3387-BA90-4499-ACE3-5E77E37E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E276-1EFB-4E70-B7EF-C44957E4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10EE-06A1-4D0A-BE72-911FD310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85C9-5FAB-41C0-81F4-4A23148D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7C41-E706-4742-BDE0-1183A895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2511-51C5-493B-BEBD-21805D1E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98F7-B2D6-456F-81BE-A448658F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B450-CE89-4553-A0EE-21ECCF52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594E-6BB7-4DDB-A8B6-C094DA00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BCBC-DE10-469E-A751-32026979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A2FF-4440-4420-AE75-93616C4D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EF4A-EB7B-4761-BE1D-0DF247D5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415E-F144-481A-A316-444B381F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FDEF-D70B-45D7-8FEC-9A587B28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37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3e7"/>
                    </a:gs>
                    <a:gs pos="100000">
                      <a:srgbClr val="9f237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03e7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03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4112-9F65-4B9E-940B-2DD132C60F7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f237f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9f237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03e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03e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69CC-F19F-4DF1-9786-583120E1F84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hyperlink" Target="http://www.50states.com/missouri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hyperlink" Target="http://bensguide.gpo.gov/3-5/state/missouri.html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postcardsfrom.com/t1/991012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hyperlink" Target="http://www.postcardsfrom.com/stamp/stamp-mo.html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04920" y="380880"/>
            <a:ext cx="624816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3e7"/>
                    </a:gs>
                    <a:gs pos="50000">
                      <a:srgbClr val="753bcb"/>
                    </a:gs>
                    <a:gs pos="100000">
                      <a:srgbClr val="ff03e7"/>
                    </a:gs>
                  </a:gsLst>
                  <a:lin ang="5400000"/>
                </a:gradFill>
                <a:latin typeface="Arial Black"/>
              </a:rPr>
              <a:t>Missour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3e7"/>
                  </a:gs>
                  <a:gs pos="50000">
                    <a:srgbClr val="753bcb"/>
                  </a:gs>
                  <a:gs pos="100000">
                    <a:srgbClr val="ff03e7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50" name=""/>
          <p:cNvSpPr/>
          <p:nvPr/>
        </p:nvSpPr>
        <p:spPr>
          <a:xfrm>
            <a:off x="5257800" y="38098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781680" y="5253120"/>
            <a:ext cx="2362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antha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pt. 22,201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3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6364440" y="2133720"/>
            <a:ext cx="2779560" cy="28191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6324480" y="49528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part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28600" y="0"/>
            <a:ext cx="5638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0 States,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 Black"/>
              </a:rPr>
              <a:t>Missouri Song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, 10/7/10, 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www.50states.com/missouri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 Black"/>
              </a:rPr>
              <a:t>State Name: Missouri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 Black"/>
              </a:rPr>
              <a:t>Capitol: Jefferson Cit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 Black"/>
              </a:rPr>
              <a:t>Population: 5,595,211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 Black"/>
              </a:rPr>
              <a:t>Entered the Union: Aug. 10, 1821, 32</a:t>
            </a:r>
            <a:r>
              <a:rPr b="0" lang="en-US" sz="2800" spc="-1" strike="noStrike" baseline="30000">
                <a:solidFill>
                  <a:srgbClr val="66ffff"/>
                </a:solidFill>
                <a:latin typeface="Arial Black"/>
              </a:rPr>
              <a:t>nd</a:t>
            </a:r>
            <a:r>
              <a:rPr b="0" lang="en-US" sz="2800" spc="-1" strike="noStrike">
                <a:solidFill>
                  <a:srgbClr val="66ffff"/>
                </a:solidFill>
                <a:latin typeface="Arial Black"/>
              </a:rPr>
              <a:t> Stat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 Black"/>
              </a:rPr>
              <a:t>Motto: Salus Populi Suprema Lex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 Black"/>
              </a:rPr>
              <a:t>Nickname: Show me Stat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 Black"/>
              </a:rPr>
              <a:t>Flower: Hawthor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 Black"/>
              </a:rPr>
              <a:t>Bird: Bluebir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 Black"/>
              </a:rPr>
              <a:t>Song: Missouri Waltz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 Black"/>
              </a:rPr>
              <a:t>Meaning Behind Name: Alogonquin meaning “river of big canoes”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 Black"/>
              </a:rPr>
              <a:t>Interesting Facts: produces lead and mozarkite, Gateway arch in St. Louis, Mo, Jewel Box in Forest Park, M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6400800" y="2590920"/>
            <a:ext cx="2044800" cy="21333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8229600" y="40384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part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Missouri: Map and State Flag"/>
          <p:cNvPicPr/>
          <p:nvPr/>
        </p:nvPicPr>
        <p:blipFill>
          <a:blip r:embed="rId1"/>
          <a:srcRect l="0" t="42655" r="0" b="0"/>
          <a:stretch/>
        </p:blipFill>
        <p:spPr>
          <a:xfrm>
            <a:off x="4952880" y="2971800"/>
            <a:ext cx="3948120" cy="35971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Missouri: Map and State Flag"/>
          <p:cNvPicPr/>
          <p:nvPr/>
        </p:nvPicPr>
        <p:blipFill>
          <a:blip r:embed="rId2"/>
          <a:srcRect l="0" t="0" r="1351" b="65166"/>
          <a:stretch/>
        </p:blipFill>
        <p:spPr>
          <a:xfrm>
            <a:off x="228600" y="228600"/>
            <a:ext cx="4343400" cy="24354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0" y="4495680"/>
            <a:ext cx="5105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n’s Guide to U.S. Government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Quick Facts Missouri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ptember 22, 2010,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"/>
                <a:hlinkClick r:id="rId3"/>
              </a:rPr>
              <a:t>http://bensguide.gpo.gov/3-5/state/missouri.htm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228600"/>
            <a:ext cx="2667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0000"/>
                </a:solidFill>
                <a:latin typeface="Arial"/>
              </a:rPr>
              <a:t>Look at the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tty colors of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2814bc"/>
                </a:solidFill>
                <a:latin typeface="Arial"/>
              </a:rPr>
              <a:t>the flag!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All images Copyright © 1997 - 2000 WriteLine. All Rights Reserved. Saint Louis Arc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990720" y="5867280"/>
            <a:ext cx="685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" y="5867280"/>
            <a:ext cx="86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80880" y="5943600"/>
            <a:ext cx="83822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 Cards From America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he Gateway Arch, St. Louis, Mo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9/23/2010,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"/>
                <a:hlinkClick r:id="rId2"/>
              </a:rPr>
              <a:t>http://www.postcardsfrom.com/t1/991012.htm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62120" y="5029200"/>
            <a:ext cx="7619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ateway Arch is awesome!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© 1999 WriteLine. Hawthorn Rose"/>
          <p:cNvPicPr/>
          <p:nvPr/>
        </p:nvPicPr>
        <p:blipFill>
          <a:blip r:embed="rId1"/>
          <a:stretch/>
        </p:blipFill>
        <p:spPr>
          <a:xfrm>
            <a:off x="304920" y="228600"/>
            <a:ext cx="2557440" cy="30481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© 1999 WriteLine. Dogwood tree"/>
          <p:cNvPicPr/>
          <p:nvPr/>
        </p:nvPicPr>
        <p:blipFill>
          <a:blip r:embed="rId2"/>
          <a:stretch/>
        </p:blipFill>
        <p:spPr>
          <a:xfrm>
            <a:off x="6172200" y="3505320"/>
            <a:ext cx="2541600" cy="30286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© 1998 WriteLine. Bluebird"/>
          <p:cNvPicPr/>
          <p:nvPr/>
        </p:nvPicPr>
        <p:blipFill>
          <a:blip r:embed="rId3"/>
          <a:stretch/>
        </p:blipFill>
        <p:spPr>
          <a:xfrm>
            <a:off x="6095880" y="228600"/>
            <a:ext cx="2644920" cy="289548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© 1999 WriteLine. Missouri flag"/>
          <p:cNvPicPr/>
          <p:nvPr/>
        </p:nvPicPr>
        <p:blipFill>
          <a:blip r:embed="rId4"/>
          <a:stretch/>
        </p:blipFill>
        <p:spPr>
          <a:xfrm>
            <a:off x="152280" y="3581280"/>
            <a:ext cx="3962520" cy="257184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0" y="6095880"/>
            <a:ext cx="8686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stcards From America,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Missouri State Stamps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9/23/10,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99"/>
                </a:solidFill>
                <a:uFillTx/>
                <a:latin typeface="Arial"/>
                <a:hlinkClick r:id="rId5"/>
              </a:rPr>
              <a:t>http://www.postcardsfrom.com/stamp/stamp-mo.html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71800" y="533520"/>
            <a:ext cx="3048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457200"/>
            <a:ext cx="251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Lucida Calligraphy"/>
              </a:rPr>
              <a:t>These stamps are beautiful!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7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7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09:41Z</dcterms:created>
  <dc:creator>install</dc:creator>
  <dc:description/>
  <dc:language>en-US</dc:language>
  <cp:lastModifiedBy>install</cp:lastModifiedBy>
  <dcterms:modified xsi:type="dcterms:W3CDTF">2010-10-14T13:21:12Z</dcterms:modified>
  <cp:revision>10</cp:revision>
  <dc:subject/>
  <dc:title>Slide 1</dc:title>
</cp:coreProperties>
</file>